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FAC5-5C33-4015-B260-FD1786D0C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0A02-F594-47AA-9662-3059C100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61FF-1799-4C9E-BC68-EDA5019D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F059-1D24-4C01-8C17-DDB7844E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9F75-EFA7-4B4F-91FA-A5C2062B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4BCA-C67F-4E67-B788-486A3B54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C742-0C17-47B2-9F2C-C5286A5F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077-3417-4910-AC00-E57470EF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50BB-B2BC-4E77-9EE3-6802E00A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CD89-651D-4673-BAE1-DB9AE2DF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DBDA-5C3A-4FAB-A017-649F35C1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A093-B5AF-4C1B-BBE5-6FDBF936C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4941-3698-4259-8134-29B55F91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65BA-17DE-4784-8E6E-F946EED3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7CA5-F830-44B6-8CA4-39CCD366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F18F-20DD-41A3-89FA-C13BCB4E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7134-8EB0-4DA0-B3A1-3D3F6C28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9711-6DFA-4821-A494-D9B9F9DF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5A8D-CA64-4346-8D40-15FA31CC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074F-181C-49D8-8365-4F7C3446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A5C-AB04-443B-B635-C6D1921A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BF0-EC7A-48A0-869B-16280E8D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58B-E2E1-4CC5-A1BD-C879A957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0361-0208-4671-B7FF-C1CA74CE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A5B2-5846-48A1-A648-31B254373A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639B-9ADF-43CB-9AE2-F41E7E4A29A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2b2b2"/>
                </a:solidFill>
                <a:latin typeface="Arial"/>
              </a:rPr>
              <a:t>180 Day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District SAT Testing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ortened classe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udents are tir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4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Field Testing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Pep Assemblies (-3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ortened classe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udents are distract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Other Events (-2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tivational Speaker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Class meetings, et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Counselors Come In To Talk About Scheduling for Next Year (-1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Days Before Major Vacations (-3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ots of students absent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rd to foc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Absent Students (-4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students miss at least four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ys for one reason or ano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Absent Teachers (-6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Most teachers miss at least six days for professional development, sickness, taking care of sick children, personal day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2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Fire Drills, Bus Evacuation Drills, Duck and Cover Drills, etc. (-2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mulative time missed due to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ire drills, etc. (planned or otherwise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Celebrations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mulative time missed due to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elebrations in clas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There are 180 days in a school year for 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instruction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Inclement Weather –hurricanes, ice, flooding</a:t>
            </a:r>
            <a:br>
              <a:rPr sz="5400"/>
            </a:b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(-1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180 Days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117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Days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73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Days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962520"/>
            <a:ext cx="9144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Time we have </a:t>
            </a: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wasted (?)</a:t>
            </a:r>
            <a:br>
              <a:rPr sz="6000"/>
            </a:b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on the w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6095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hefischbowl.blogspot.com/2007/04/180-day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Or are there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First Day of School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istribute textbooks, go over class expectations, fill out index cards, class meetings, icebre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7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End of the School Year (-1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igning yearbooks, heat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d of year stuf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7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12 Tests Given (-12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ssumes once every three week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6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Final Exams (-6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ree days of finals each semes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6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Review Days for Tests and Final Exams (-8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a day for each test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ull day for each fin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TAKS Testing (-10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ortened classes, strange schedule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udents are tir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4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ITS</dc:creator>
  <dc:description/>
  <dc:language>en-US</dc:language>
  <cp:lastModifiedBy>CFISD</cp:lastModifiedBy>
  <dcterms:modified xsi:type="dcterms:W3CDTF">2008-10-01T18:24:46Z</dcterms:modified>
  <cp:revision>140</cp:revision>
  <dc:subject/>
  <dc:title>AHS has 249 new computers this fall. </dc:title>
</cp:coreProperties>
</file>